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27B-0195-4BFF-89BD-86D70D2D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257-C7B0-4BF9-B5C3-1BD3B67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437-A308-4274-8546-126B4FF8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D4D-960C-4335-88FD-6985F791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065-7BB8-4E27-A1AD-F3D8F12E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204-299C-43BB-BF70-A9586C38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56E-AB40-49A7-B19A-84CE2972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B6D-1C41-4C75-A485-629CBAD6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688-66EE-4C37-AE6A-E193AC7A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9EB-E2D4-4DAF-B03D-86561AB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003-590F-436D-BA97-9A05211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006-D3D0-42E1-9C3B-4FB1491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0F10-F0E0-4142-96E1-8EDBE097D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.webp"/>
          <p:cNvPicPr/>
          <p:nvPr/>
        </p:nvPicPr>
        <p:blipFill>
          <a:blip r:embed="rId1"/>
          <a:stretch/>
        </p:blipFill>
        <p:spPr>
          <a:xfrm>
            <a:off x="1835280" y="1123920"/>
            <a:ext cx="609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2.webp (1)"/>
          <p:cNvPicPr/>
          <p:nvPr/>
        </p:nvPicPr>
        <p:blipFill>
          <a:blip r:embed="rId1"/>
          <a:stretch/>
        </p:blipFill>
        <p:spPr>
          <a:xfrm>
            <a:off x="1763640" y="836640"/>
            <a:ext cx="6189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" descr="6.webp"/>
          <p:cNvPicPr/>
          <p:nvPr/>
        </p:nvPicPr>
        <p:blipFill>
          <a:blip r:embed="rId1"/>
          <a:stretch/>
        </p:blipFill>
        <p:spPr>
          <a:xfrm>
            <a:off x="1835280" y="1123920"/>
            <a:ext cx="57736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3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4.webp"/>
          <p:cNvPicPr/>
          <p:nvPr/>
        </p:nvPicPr>
        <p:blipFill>
          <a:blip r:embed="rId1"/>
          <a:stretch/>
        </p:blipFill>
        <p:spPr>
          <a:xfrm>
            <a:off x="1979640" y="1339920"/>
            <a:ext cx="55818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6T12:29:40Z</dcterms:created>
  <dc:creator>Administrator</dc:creator>
  <dc:description/>
  <dc:language>en-US</dc:language>
  <cp:lastModifiedBy>卖女柴的小火孩</cp:lastModifiedBy>
  <dcterms:modified xsi:type="dcterms:W3CDTF">2022-05-16T12:29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D8520959DF7426385FFC9AF5D52B734</vt:lpwstr>
  </property>
  <property fmtid="{D5CDD505-2E9C-101B-9397-08002B2CF9AE}" pid="3" name="KSOProductBuildVer">
    <vt:lpwstr>2052-11.1.0.11691</vt:lpwstr>
  </property>
</Properties>
</file>